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4F68A-67C0-471E-9CFC-4731FEC9A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39F9-15C6-4225-8771-9A309275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D4394-E99B-4401-86C9-276F461C1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451B7-4760-4A9C-A5F2-EEF6454ED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1332-581F-49AE-9D11-3B17814AF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FD43-E2BC-497A-80E1-1B5C96D7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26DF-A3F2-4DA4-A9E1-4CBC4A3F9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5EF96-732C-4704-B633-284255668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AFCE-8811-4871-8018-EEB54488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7EDC-B0BA-4573-99CF-B07CE333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418F-CE77-44EB-B49D-7ED413F2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FF01-E3F8-4D6E-B7E4-CF1F3FA7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C953-05C1-47E7-94BC-99690F94B52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43Z</dcterms:modified>
  <cp:revision>46</cp:revision>
  <dc:subject/>
  <dc:title>SALARIUL</dc:title>
</cp:coreProperties>
</file>